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5FF-E791-4E53-AC2F-DE068D47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C05-CAD5-4292-A16B-BBD157F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192-CA8D-406D-B6CB-5E45A498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B82-D2E1-4402-A010-47288823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A3B-07E9-45F9-A92F-7BB3019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705-8EF7-4DBB-9A7E-DFFC38B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86F-A1BA-4786-9933-45AB44C8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038-E6C9-4E61-8299-1596B27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8BF-BA7E-4C0D-9696-4A5359E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EAD-1967-49EB-B522-3DC4CB4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2A8-6621-4097-A595-7B20C3B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63B-64D3-426B-9783-8779975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97E5-1C63-4999-885D-4A50E006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57520" y="0"/>
            <a:ext cx="558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ا لن أرى حباً أعظم وأقوى من حبك فوق الصليب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خترتَه طوعا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هو عقابٌ عادلٌ  لآثم متمر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ُمنا وعيَّرنا بطرس بالجبن يومَ أَنكر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</a:rPr>
              <a:t>كلُّنا  قد قلنا خائن ليهوذا حين أسلمك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1101096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352680" cy="9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اليوم أمامَ الناس نستحي بك ننك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طعتين من النحاس مثل يهوذا نُسلم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73392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جمع كان ينادي لباراباس يطلق بالإفرا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لبَك كان مطلبهم أن تُجلد أنت بالكرباج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19112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اكموك عيّروك حمّلوك صليب الع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ين لصوص علّقوك أيها القدوس الب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0:43:39Z</dcterms:created>
  <dc:creator>SUZANNE.MD</dc:creator>
  <dc:description/>
  <dc:language>en-US</dc:language>
  <cp:lastModifiedBy>HANI SAFI</cp:lastModifiedBy>
  <dcterms:modified xsi:type="dcterms:W3CDTF">2003-03-17T14:23:37Z</dcterms:modified>
  <cp:revision>7</cp:revision>
  <dc:subject/>
  <dc:title>PowerPoint Presentation</dc:title>
</cp:coreProperties>
</file>